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D3B-36E7-4009-944F-470CF7C8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131-2424-4A74-9EA2-09124C2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E44-ED57-4793-AEAB-B762FFDD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181-9348-465D-A7E4-29B7F313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0A6-D0FD-4D12-A9D1-FEF8C49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437C-B20E-4E1B-989D-56331FF0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CCE5-6714-4CC8-A5C2-3EDC6E6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DA97-4AC8-409D-8647-B4AFBB8B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A7D3-C965-4B36-9C98-5FD0050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3090-4CB0-457D-A0C1-88669884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B1C-DAE9-414F-BF6C-BE8EAAEB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14F-A92D-4E3C-A8AF-BAD4755A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729F-BBBA-452D-9E2B-443F67B5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F7BD-7FC0-4538-8AA2-57931874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32DF-A36C-4640-ABC1-8907AE2D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651E-7ACB-467A-920A-EC5BC165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4C5E-0056-4930-9126-D7E36996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351-A194-4CFD-95A0-99335C6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D75-B861-43A0-8E4D-03F8A12D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775-E7D1-4C49-9005-C51B781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0DF-6D6B-4CCD-A24B-8CD8AC0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554-AA23-4DF9-B3D1-AF95FCE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D58-292B-4A02-BA5F-EA39FE9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037-1E6F-4222-B9FE-02A81E6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4B3EE-502C-4480-876B-EF2CCED9A6DF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0EF87-5D37-4E4D-874D-F1E88219B5C6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2116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DAA59-9FB3-4E8A-B403-B4EE7BA9E5A0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118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118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E3E98-E549-4987-93B0-9256BEA6DC18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ubtitle 2" descr=""/>
          <p:cNvPicPr/>
          <p:nvPr/>
        </p:nvPicPr>
        <p:blipFill>
          <a:blip r:embed="rId2"/>
          <a:stretch/>
        </p:blipFill>
        <p:spPr>
          <a:xfrm>
            <a:off x="2054160" y="4187880"/>
            <a:ext cx="5035680" cy="14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ass for learning photo.jpg"/>
          <p:cNvPicPr/>
          <p:nvPr/>
        </p:nvPicPr>
        <p:blipFill>
          <a:blip r:embed="rId3"/>
          <a:stretch/>
        </p:blipFill>
        <p:spPr>
          <a:xfrm>
            <a:off x="17640" y="0"/>
            <a:ext cx="9153360" cy="6095880"/>
          </a:xfrm>
          <a:prstGeom prst="rect">
            <a:avLst/>
          </a:prstGeom>
          <a:ln w="0">
            <a:noFill/>
          </a:ln>
        </p:spPr>
      </p:pic>
      <p:pic>
        <p:nvPicPr>
          <p:cNvPr id="84" name="Title 1" descr=""/>
          <p:cNvPicPr/>
          <p:nvPr/>
        </p:nvPicPr>
        <p:blipFill>
          <a:blip r:embed="rId4"/>
          <a:stretch/>
        </p:blipFill>
        <p:spPr>
          <a:xfrm>
            <a:off x="-128520" y="5589720"/>
            <a:ext cx="94122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Content Placeholder 2" descr=""/>
          <p:cNvPicPr/>
          <p:nvPr/>
        </p:nvPicPr>
        <p:blipFill>
          <a:blip r:embed="rId2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2" descr=""/>
          <p:cNvPicPr/>
          <p:nvPr/>
        </p:nvPicPr>
        <p:blipFill>
          <a:blip r:embed="rId2"/>
          <a:stretch/>
        </p:blipFill>
        <p:spPr>
          <a:xfrm>
            <a:off x="907920" y="2584440"/>
            <a:ext cx="7328160" cy="3475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539640" y="1557360"/>
            <a:ext cx="8209080" cy="70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ate yourself fro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 this consistently well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o: 0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n’t do this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2"/>
          <a:stretch/>
        </p:blipFill>
        <p:spPr>
          <a:xfrm>
            <a:off x="895320" y="208080"/>
            <a:ext cx="7346880" cy="129672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669960" y="212760"/>
            <a:ext cx="7572240" cy="12920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3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4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3578400" cy="432900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5" descr=""/>
          <p:cNvPicPr/>
          <p:nvPr/>
        </p:nvPicPr>
        <p:blipFill>
          <a:blip r:embed="rId4"/>
          <a:stretch/>
        </p:blipFill>
        <p:spPr>
          <a:xfrm>
            <a:off x="4638600" y="1743120"/>
            <a:ext cx="3578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4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2:47:04Z</dcterms:created>
  <dc:creator>Kylie Lipscombe</dc:creator>
  <dc:description/>
  <dc:language>en-US</dc:language>
  <cp:lastModifiedBy>Kylie Lipscombe</cp:lastModifiedBy>
  <dcterms:modified xsi:type="dcterms:W3CDTF">2009-10-12T07:07:51Z</dcterms:modified>
  <cp:revision>2</cp:revision>
  <dc:subject/>
  <dc:title>FORmative Assessment</dc:title>
</cp:coreProperties>
</file>